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WHOOSH.WAV" ContentType="audio/x-wav"/>
  <Override PartName="/ppt/media/highchime.wav" ContentType="audio/x-wav"/>
  <Override PartName="/ppt/media/CHIMES.WAV" ContentType="audio/x-wav"/>
  <Override PartName="/ppt/media/hzipup01.wav" ContentType="audio/x-wav"/>
  <Override PartName="/ppt/media/jetflyby2.wav" ContentType="audio/x-wav"/>
  <Override PartName="/ppt/media/bserie06.wav" ContentType="audio/x-wav"/>
  <Override PartName="/ppt/media/children%20wow.wav" ContentType="audio/x-wav"/>
  <Override PartName="/ppt/media/image4.gif" ContentType="image/gif"/>
  <Override PartName="/ppt/media/zipby102.wav" ContentType="audio/x-wav"/>
  <Override PartName="/ppt/media/caralarmoff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A06-C793-42F5-8527-EB6B2ADE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DC4-3EF0-49BC-A027-39BD4756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B30-32FC-4BCB-A5ED-CCD32761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509-54DA-46CF-8E86-C7420D81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004-86E5-4F38-80BB-BEC0C358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4E0-046C-4559-9D62-F06097F7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6D9-5D71-46B6-9DBA-F3DB0199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0FC-8128-474A-B743-475A6D70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C9A-E5F2-49C9-ADE0-ECC609F3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ECC-E6A1-445A-8CE4-46AF386C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268-32BB-4A4A-A496-2B53915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9D6-3362-4428-A0F3-A74F2377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5C78-5A31-4FC1-92D4-3B2159990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WHOOSH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hzipup01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zipby102.wav"/><Relationship Id="rId3" Type="http://schemas.openxmlformats.org/officeDocument/2006/relationships/audio" Target="../media/CHIMES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children%20wow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.  weight of a humming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u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.  14 in =________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333520" y="5762520"/>
                <a:ext cx="137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21000" y="5454720"/>
                <a:ext cx="11955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389480" y="6113520"/>
                <a:ext cx="1193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2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90880" y="630072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7168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61348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535800" y="5748480"/>
                <a:ext cx="453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086600" y="5359320"/>
                <a:ext cx="160956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1.  14 pt =________ q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11560" y="5692680"/>
                <a:ext cx="1415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179960" y="5454720"/>
                <a:ext cx="12780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q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471920" y="6051600"/>
                <a:ext cx="1028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 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952800" y="6321600"/>
                <a:ext cx="28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31444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54520" y="5695920"/>
                <a:ext cx="9208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537240" y="5756400"/>
                <a:ext cx="5367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2.  3 mi =________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381400" y="5740560"/>
                <a:ext cx="127476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m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09880" y="5454720"/>
                <a:ext cx="20196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280  f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71920" y="6113520"/>
                <a:ext cx="1028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m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41452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803920" y="5749920"/>
                <a:ext cx="21319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72560" y="5776920"/>
                <a:ext cx="453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289560" y="455760"/>
            <a:ext cx="2667240" cy="3333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-World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990720"/>
            <a:ext cx="647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3.   Fred’s fruit stand sells homemade lemonade in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6.5-pint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bottles for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$1.99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. Jill’s fruit stand sells homemade lemonade in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3.5-qt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bottles for 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ame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price. At which stand do you get the most lemonade for the mon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147680" y="3605040"/>
                <a:ext cx="26067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qt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79400" y="4510080"/>
                <a:ext cx="1747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9200" y="4167360"/>
                <a:ext cx="160200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q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779560" y="5043600"/>
                <a:ext cx="1292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 flipH="1">
            <a:off x="1771560" y="4818240"/>
            <a:ext cx="711360" cy="245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316320" y="5334120"/>
            <a:ext cx="668160" cy="306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07920" y="4694400"/>
            <a:ext cx="725760" cy="377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417920"/>
                <a:ext cx="99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 flipH="1">
            <a:off x="2746440" y="5222880"/>
            <a:ext cx="479520" cy="3207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414520" y="5234040"/>
                <a:ext cx="28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970440" y="4622760"/>
                <a:ext cx="16477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622840" y="4718160"/>
                <a:ext cx="5796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63720" y="5854680"/>
            <a:ext cx="57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Jill’s stand is a better d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.  length of a soccer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y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  capacity of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gall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.  weight of a 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.  length of a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6.  capacity of a milk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8480" y="593712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luid ou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7.  10 quarts to ga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82720" y="5735520"/>
                <a:ext cx="13701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076640" y="5454720"/>
                <a:ext cx="14842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gal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1800" y="6197760"/>
                <a:ext cx="1030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q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H="1">
            <a:off x="3323880" y="595008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97000" y="630540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77680" y="591336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65480" y="5838840"/>
                <a:ext cx="371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 flipH="1">
            <a:off x="4282560" y="6354720"/>
            <a:ext cx="56700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90880" y="6321600"/>
                <a:ext cx="412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7328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54040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361200" y="5707080"/>
                <a:ext cx="743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162920" y="5345280"/>
                <a:ext cx="198108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ga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8.  68 fluid ounces to c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81240" y="5753160"/>
                <a:ext cx="19368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8  fl o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262400" y="5454720"/>
                <a:ext cx="11127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c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06960" y="6238800"/>
                <a:ext cx="1441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fl o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H="1">
            <a:off x="3121200" y="5994360"/>
            <a:ext cx="91440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797000" y="630540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6972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46200" y="5796000"/>
                <a:ext cx="619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H="1">
            <a:off x="4197240" y="6354720"/>
            <a:ext cx="47952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90880" y="6321600"/>
                <a:ext cx="412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44840" y="5761080"/>
                <a:ext cx="12729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510160" y="5375160"/>
                <a:ext cx="107172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76840" y="5810400"/>
                <a:ext cx="371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107120" y="5359320"/>
                <a:ext cx="1568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9.  14 oz =________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30280" y="5738760"/>
                <a:ext cx="14637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o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79960" y="5454720"/>
                <a:ext cx="12780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lb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48080" y="6093000"/>
                <a:ext cx="1276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  o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11760" y="6300720"/>
                <a:ext cx="371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144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61348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494400" y="5748480"/>
                <a:ext cx="5367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3-11-06T20:34:19Z</dcterms:modified>
  <cp:revision>122</cp:revision>
  <dc:subject/>
  <dc:title>No Slide Title</dc:title>
</cp:coreProperties>
</file>